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CCD421-0AD1-48B3-8251-158E5AEFDA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7115CCC-591E-49A1-AD34-85FF0F3E928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89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5752AF-E5BE-44A1-80F9-CD3671AF4BB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1E3764-01D0-4EC6-B9C2-350581A88E6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02A4D7-78FA-4835-9945-EF9D099F2AE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F902789-54BF-469B-8A32-74D617A44DA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386A00-D47A-4495-873B-5DD414F2236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4FB6D7E-023A-4B53-A23B-F3CB8899748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8040" y="4692240"/>
            <a:ext cx="5365800" cy="44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7b8c0"/>
              </a:solidFill>
              <a:latin typeface="Century Gothic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31E56D-C5C4-4159-90C8-416731A4E3A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5900C2-547F-4212-9C33-7AA4B85DDC7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5112000" cy="4962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7b8c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7ED43D-2BAB-48C3-AC71-42D7680324D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B5E2FC-0749-4ACE-90BB-73719872F4A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5A0A7B-E3F8-4A58-B926-5A87ECAEBA5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F270DE5-946A-4B55-8FAA-4B1251103C3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C404E3F-EE15-408A-8AE6-D0F334B41F5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AD9F91-E981-4D07-AF81-EE8467FE576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F10-7A9C-4E7E-9D3F-6E58FEF2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18F-9597-4800-8412-B77A163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5CB-F532-4938-84F6-3F5F0A6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131-0C29-4291-ABDF-FBD2C1B7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CB26-67FD-423A-87EA-1C9DE432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4B58-7D2C-46FD-9C80-023DF7E0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E2C7-0569-4968-9416-39EFF4B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6A8-321B-4753-A87D-3E07B71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C7C-075A-498D-B051-02941BA9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872D-8710-4D38-8B83-FE615DB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3B0F-D280-4582-867D-8D17129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261-49D3-4879-A49F-F0F4AA9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45B-9E44-4660-B8DA-3268E24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DBD-D0FB-4AEC-B4FE-DB6707D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CB6-A356-4F45-92A0-A3B7723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D31-7D96-4156-8A7C-5F7F5E25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336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2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336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2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03E-D04D-44D3-A474-9805046A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37F-9276-4CA8-BBA6-B3E705D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41A-E475-4B0F-8D4E-CFA7D988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8FF-FD83-4F1A-AA50-C25670DA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76212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E9F-016B-4BB9-AE13-787A8383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5A0-296D-429C-9858-669A422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144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137-DDC1-4642-B678-702BBA6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144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88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59E-3CF0-4C0A-ADF3-BD93E6D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11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905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6C3B-EF0A-4A26-AE57-E3CE2DB9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676520"/>
            <a:ext cx="914724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205740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B7C-253F-4382-96E8-E6D09FE870F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23623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1371600" y="2028960"/>
            <a:ext cx="2328840" cy="3686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Perception of Flashing Lights</a:t>
            </a:r>
            <a:endParaRPr b="1" lang="en-US" sz="40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732720" y="20289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entury Gothic"/>
              </a:rPr>
              <a:t>EEP16/INF/4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s the definition of effective intensity only provides for flashing lights at threshold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, we need another term to explain the perception of flashing lights above threshold at different illuminance levels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t is proposed that the deprecated term “apparent intensity”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 is revived and used for this purpos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ecause the perception of a flash changes with the level of illuminance, it is proposed that a level of illuminance in microlux is stated with the apparent intensity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a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, E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828800"/>
            <a:ext cx="763272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t has been suggested that apparent intensity can be modelled by varying the value of the Blondel-Rey visual time-constant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linking it to the value of illuminance.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 1933, Hampton suggested using a formula for such a purpose: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1908000" y="3884760"/>
                <a:ext cx="3619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826920" y="4581360"/>
            <a:ext cx="7632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formula can be used to calculate a value for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Blondel-Rey equation for different illuminance levels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i="1" lang="en-GB" sz="4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 Approach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83560" cy="43354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71640" y="1773360"/>
          <a:ext cx="7391160" cy="4267080"/>
        </p:xfrm>
        <a:graphic>
          <a:graphicData uri="http://schemas.openxmlformats.org/drawingml/2006/table">
            <a:tbl>
              <a:tblPr/>
              <a:tblGrid>
                <a:gridCol w="1631880"/>
                <a:gridCol w="1905120"/>
                <a:gridCol w="1904760"/>
                <a:gridCol w="1949400"/>
              </a:tblGrid>
              <a:tr h="13208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ash Duration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s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fectiv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pparen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ntensity </a:t>
                      </a:r>
                      <a:r>
                        <a:rPr b="0" i="1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a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t 0.2 </a:t>
                      </a:r>
                      <a:r>
                        <a:rPr b="0" lang="el-GR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μ</a:t>
                      </a: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u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% Increas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Century Gothic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Repeat T-S &amp; G’s experiment (rectangular flashes)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non-rectangular flashe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with background luminanc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est for different colours of light against different background colours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ind most appropriate model at each stage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ank You</a:t>
            </a:r>
            <a:r>
              <a:rPr b="1" lang="en-GB" sz="44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267080" y="508464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ian.tutt@gla-rrnav.org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2133720"/>
            <a:ext cx="48769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entury Gothic"/>
              </a:rPr>
              <a:t>Ian Tutt</a:t>
            </a:r>
            <a:endParaRPr b="0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General Lighthouse Authorities R&amp;RNAV Directorate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Harwich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Essex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entury Gothic"/>
              </a:rPr>
              <a:t>UK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69" name="Picture 8" descr="Crammag Head"/>
          <p:cNvPicPr/>
          <p:nvPr/>
        </p:nvPicPr>
        <p:blipFill>
          <a:blip r:embed="rId1"/>
          <a:srcRect l="0" t="0" r="0" b="26577"/>
          <a:stretch/>
        </p:blipFill>
        <p:spPr>
          <a:xfrm>
            <a:off x="900000" y="2349360"/>
            <a:ext cx="3027600" cy="2961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4248000" cy="28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Apparent Intensity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hat’s the difference?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Arial"/>
              </a:rPr>
              <a:t>Way Forward</a:t>
            </a:r>
            <a:endParaRPr b="0" lang="en-US" sz="21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2646360" cy="3527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Luminous Rang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92144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is a calculated figure based on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ight Intens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at the observer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tmospheric transmissivity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rom Allar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 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llumin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ransmissiv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distanc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s at the threshold of perception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476360" y="4203720"/>
                <a:ext cx="2160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hreshold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31480"/>
            <a:ext cx="8281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From the International Lighting Vocabulary: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Threshold of illuminance: smallest illuminance produced at the eye of an observer by a light source seen in point vision, which renders the source perceptible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Note: For visual signalling, the light source must be rendered recognisable, and hence a higher threshold of illuminance is to be expected.”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Observer Illuminance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31840"/>
            <a:ext cx="8281800" cy="37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 1933 an international lighthouse conference in Paris recommended that the minimum illuminance at the observer required to safely recognise an aid to navigation signal light was 0.67 sea-mile candelas (0.2 microlux)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ince then, all luminous range calculations for maritime AtoN use have been based on that illuminance figure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refore d is the luminous range when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(d)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in the Allard equation is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ffective intensity is defined as the luminous intensity of a steady light source that would have the sam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uminous rang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s the flashing light in question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Luminous range for marine AtoN signal lights is based on an observer illuminance of 0.2 microlux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owever, most experiments that investigated effective intensity were based on an observer’s detection of a light at achromatic threshold of illuminance - where the observer could just detect the light (approx 0.05microlux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Effective Intensity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28440"/>
            <a:ext cx="8135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or a rectangular flash, the Blondel-Rey equation for effective intensity is valid: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here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effective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Io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peak intensity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flash duration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= the visual time-constant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lvl="2" marL="1131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value of </a:t>
            </a:r>
            <a:r>
              <a:rPr b="0" i="1" lang="en-GB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is typically 0.2 for nighttime use</a:t>
            </a:r>
            <a:endParaRPr b="0" lang="en-US" sz="2000" spc="-1" strike="noStrike">
              <a:solidFill>
                <a:srgbClr val="000066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is equation holds true for flashing lights at the achromatic threshold of perception (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1187280" y="2708280"/>
                <a:ext cx="1368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ut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0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At the 1933 conference in Paris, one of the papers presented was an experiment by Toulmin-Smith and Green of UK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ir experiment investigated the perception of flashing lights at illuminances above threshold (supra-threshold) – the flash profiles were rectangular.</a:t>
            </a:r>
            <a:endParaRPr b="0" lang="en-US" sz="2500" spc="-1" strike="noStrike">
              <a:solidFill>
                <a:srgbClr val="0000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99"/>
                </a:solidFill>
                <a:latin typeface="Arial"/>
              </a:rPr>
              <a:t>They used ‘brightness matching’ to plot curves of visual perception at 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t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threshold)</a:t>
            </a:r>
            <a:r>
              <a:rPr b="0" lang="en-GB" sz="2400" spc="-1" strike="noStrike" baseline="-6000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nd several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lluminance values of</a:t>
            </a:r>
            <a:r>
              <a:rPr b="0" i="1" lang="en-GB" sz="24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i="1" lang="en-GB" sz="2400" spc="-1" strike="noStrike" baseline="-6000">
                <a:solidFill>
                  <a:srgbClr val="000099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supra-threshold)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4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8/09/10</a:t>
            </a:r>
            <a:endParaRPr b="0" lang="en-US" sz="1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259092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entury Gothic"/>
                <a:ea typeface="Times New Roman"/>
              </a:rPr>
              <a:t>EEP15 WG4</a:t>
            </a:r>
            <a:endParaRPr b="0" lang="en-US" sz="1800" spc="-1" strike="noStrike">
              <a:solidFill>
                <a:srgbClr val="000066"/>
              </a:solidFill>
              <a:latin typeface="Century Gothic"/>
            </a:endParaRPr>
          </a:p>
        </p:txBody>
      </p:sp>
      <p:pic>
        <p:nvPicPr>
          <p:cNvPr id="133" name="Picture 7" descr="T-S&amp;G_fig5 t negative from Air Ministry Paper"/>
          <p:cNvPicPr/>
          <p:nvPr/>
        </p:nvPicPr>
        <p:blipFill>
          <a:blip r:embed="rId1"/>
          <a:stretch/>
        </p:blipFill>
        <p:spPr>
          <a:xfrm>
            <a:off x="684360" y="1700280"/>
            <a:ext cx="4967280" cy="4498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41200" y="2120760"/>
            <a:ext cx="52578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"/>
              </a:rPr>
              <a:t>Toulmin-Smith and Green</a:t>
            </a:r>
            <a:endParaRPr b="1" lang="en-US" sz="4400" spc="-1" strike="noStrike">
              <a:solidFill>
                <a:srgbClr val="00009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22560" y="2852280"/>
            <a:ext cx="34210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tract from Toulmin-Smith and Green’s paper of 1933.</a:t>
            </a:r>
            <a:endParaRPr b="0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transition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5:28:25Z</dcterms:created>
  <dc:creator>Ian Tutt</dc:creator>
  <dc:description/>
  <dc:language>en-US</dc:language>
  <cp:lastModifiedBy>Mike Hadley</cp:lastModifiedBy>
  <dcterms:modified xsi:type="dcterms:W3CDTF">2011-02-14T10:37:16Z</dcterms:modified>
  <cp:revision>193</cp:revision>
  <dc:subject/>
  <dc:title>Lights Strategy Workshop</dc:title>
</cp:coreProperties>
</file>